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F4A-D120-4F4B-8A0E-1D78F41E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6F5-7E38-4B87-95D5-5430ED4E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F3A-4AAA-498F-89C0-C55DF3BC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557-50CB-43CE-9598-65CD4082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972-790B-45E8-8EA6-B2245D9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E0B-F299-4E59-944D-86F5702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994-DC8D-4B17-98E5-801091A3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4F0-182C-49DB-B934-33FC42D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629-08A8-4037-A7F1-CBCCC01C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47C-799D-4E2B-93A9-2AEB2EF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487-6C6B-473F-83C0-B8364C2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F59-2886-4F50-AFAC-25CF662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DB45-F74A-40FC-9608-F77E4AF24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839130pPYJDRksSW_ph" descr=""/>
          <p:cNvPicPr/>
          <p:nvPr/>
        </p:nvPicPr>
        <p:blipFill>
          <a:blip r:embed="rId1"/>
          <a:stretch/>
        </p:blipFill>
        <p:spPr>
          <a:xfrm>
            <a:off x="0" y="-228600"/>
            <a:ext cx="655308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380880"/>
            <a:ext cx="259092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رنموا للرب ترنيما جدي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أحسنوا العزف مع الهت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فرحين مرن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275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533520"/>
            <a:ext cx="30481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إعترفوا له بالكنارة وبعشاري الأوت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شيدوا له، رنّم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إن التسبيح يجمُلُ بالمستقي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5687_ph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0"/>
            <a:ext cx="259092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 يحب البرَّ والعدلَ، ومن محبته امتلأتِ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ه تبتهجُ قلوبنا وعيوننا، فهو نُصرَتُنا وملج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عليه توكل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46:17Z</dcterms:created>
  <dc:creator>SUZANNE.MD</dc:creator>
  <dc:description/>
  <dc:language>en-US</dc:language>
  <cp:lastModifiedBy>SUZANNE.MD</cp:lastModifiedBy>
  <dcterms:modified xsi:type="dcterms:W3CDTF">2002-12-09T06:42:17Z</dcterms:modified>
  <cp:revision>3</cp:revision>
  <dc:subject/>
  <dc:title>PowerPoint Presentation</dc:title>
</cp:coreProperties>
</file>